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530F-7545-430A-954D-A6739ED38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3A39-CE55-40C5-8BA7-0A29A780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505F-BA03-4FFD-A9D6-1098AA0E1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7D4F-6F74-4B06-A3F1-149930B74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35AB-95DD-443E-AE1B-F9E867C52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EEC3-8002-4EE0-BABA-E50095C9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E183D-045A-402E-9C42-3E4B8232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C5212-07D2-4F89-9D49-AAD2B8D2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1F02-B556-4746-885C-A5AA89FC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E606-84E8-427C-9B67-8CCE5225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9C29-9F64-4F51-B207-0859456D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B348-5F52-442C-8D43-E278C37C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07DF-1635-40B5-A612-B893060B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155EC-15BB-4B7B-A394-B88EC399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6181-52D6-4C86-A0E9-D672C5E6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2ADD-115D-4BA9-9C5F-5A6CFD94F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BC85-59B6-45A2-A11A-EB04DDFFD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1564-E507-4E1C-AEB9-EE197D18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63A6-4F72-4E38-AA43-08A3FCB2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93DC-E6E7-4FCD-8963-DED5AB90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71AD-B89B-4EAB-B59F-8C18FF64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935F-8F5B-4C92-BBBD-A291A4D0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EFC3-90F0-40F3-9540-A48CE27C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D991-0E44-4AD5-81CA-62FA94B1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E9F1-F048-4289-83D8-EFB521E94A08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B61C-5B21-4690-BBE1-47B8414DC046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28440" y="457200"/>
            <a:ext cx="5181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5400" spc="-1" strike="noStrike">
                <a:solidFill>
                  <a:srgbClr val="482400"/>
                </a:solidFill>
                <a:latin typeface="Times New Roman"/>
              </a:rPr>
              <a:t>CP Psychology</a:t>
            </a:r>
            <a:endParaRPr b="0" lang="en-US" sz="5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65160" y="1905120"/>
            <a:ext cx="817884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Times New Roman"/>
              </a:rPr>
              <a:t>The Brain and Behavi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82400"/>
                </a:solidFill>
                <a:latin typeface="Times New Roman"/>
              </a:rPr>
              <a:t>Section 4Q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r. Freccia, NH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encoe Publis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bd05188_" descr=""/>
          <p:cNvPicPr/>
          <p:nvPr/>
        </p:nvPicPr>
        <p:blipFill>
          <a:blip r:embed="rId2"/>
          <a:stretch/>
        </p:blipFill>
        <p:spPr>
          <a:xfrm>
            <a:off x="7872480" y="0"/>
            <a:ext cx="1271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990360" y="182880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ucture of the nervous system (two part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524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entral Nervous System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ly composed of the brain and spinal ch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524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eripheral Nervous Syst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osed of the smaller branches of nerves in throughout the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rvous system is protected by the skull, vertebrae or layers of shea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38088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ody and Behavi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4Q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bd05188_" descr=""/>
          <p:cNvPicPr/>
          <p:nvPr/>
        </p:nvPicPr>
        <p:blipFill>
          <a:blip r:embed="rId2"/>
          <a:stretch/>
        </p:blipFill>
        <p:spPr>
          <a:xfrm>
            <a:off x="7872480" y="0"/>
            <a:ext cx="1271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ln2_6_1" descr="The nervous system"/>
          <p:cNvPicPr/>
          <p:nvPr/>
        </p:nvPicPr>
        <p:blipFill>
          <a:blip r:embed="rId2"/>
          <a:srcRect l="0" t="0" r="15913" b="0"/>
          <a:stretch/>
        </p:blipFill>
        <p:spPr>
          <a:xfrm>
            <a:off x="152280" y="63360"/>
            <a:ext cx="8915400" cy="67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380880"/>
            <a:ext cx="693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ody and Behavio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4Q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bd05188_" descr=""/>
          <p:cNvPicPr/>
          <p:nvPr/>
        </p:nvPicPr>
        <p:blipFill>
          <a:blip r:embed="rId2"/>
          <a:stretch/>
        </p:blipFill>
        <p:spPr>
          <a:xfrm>
            <a:off x="7872480" y="0"/>
            <a:ext cx="1271520" cy="1600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90720" y="2514600"/>
            <a:ext cx="763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1905120"/>
            <a:ext cx="792468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ientifically speaking, you are your b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r brain doesn’t work, you don’t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thing about you (from personality to your favorite color) is coded into the billions of nerve cells found in your 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0% of those nerve cells are located in the b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5160" y="1905120"/>
            <a:ext cx="817884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19051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4724280"/>
            <a:ext cx="815328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rvous system sends messages much like a city’s telephon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bles are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nerve fiber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le connections (gaps) between nerve cells are called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ynapse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059920" y="152280"/>
            <a:ext cx="5587200" cy="4500360"/>
            <a:chOff x="2059920" y="152280"/>
            <a:chExt cx="5587200" cy="4500360"/>
          </a:xfrm>
        </p:grpSpPr>
        <p:pic>
          <p:nvPicPr>
            <p:cNvPr id="109" name="" descr=""/>
            <p:cNvPicPr/>
            <p:nvPr/>
          </p:nvPicPr>
          <p:blipFill>
            <a:blip r:embed="rId2"/>
            <a:srcRect l="7016" t="16667" r="8770" b="18179"/>
            <a:stretch/>
          </p:blipFill>
          <p:spPr>
            <a:xfrm>
              <a:off x="2810160" y="867240"/>
              <a:ext cx="4015440" cy="310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2059920" y="2240640"/>
              <a:ext cx="78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92040" y="2240640"/>
              <a:ext cx="95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29080" y="152280"/>
              <a:ext cx="262080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urons in the brai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nect with 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nother to form networ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304440" y="3975480"/>
              <a:ext cx="306108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he brain learns by modify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ertain connections i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ponse to feedb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5160" y="1905120"/>
            <a:ext cx="817884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38088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ody and Behavi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4Q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19051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1725480"/>
            <a:ext cx="8534520" cy="48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ain gets input 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993300"/>
                </a:solidFill>
                <a:latin typeface="Times New Roman"/>
              </a:rPr>
              <a:t>recep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ensory) neu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ain sends output throug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993300"/>
                </a:solidFill>
                <a:latin typeface="Times New Roman"/>
              </a:rPr>
              <a:t>effe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otor) neu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eurons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rings of cells that make up the nerves and relay electrical/chemical sig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eurotransmitt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chemicals) pass across the synapses to </a:t>
            </a:r>
            <a:r>
              <a:rPr b="0" i="1" lang="en-US" sz="2800" spc="-1" strike="noStrike">
                <a:solidFill>
                  <a:srgbClr val="666600"/>
                </a:solidFill>
                <a:latin typeface="Times New Roman"/>
              </a:rPr>
              <a:t>excite</a:t>
            </a:r>
            <a:r>
              <a:rPr b="0" lang="en-US" sz="2800" spc="-1" strike="noStrike">
                <a:solidFill>
                  <a:srgbClr val="6666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800" spc="-1" strike="noStrike">
                <a:solidFill>
                  <a:srgbClr val="666600"/>
                </a:solidFill>
                <a:latin typeface="Times New Roman"/>
              </a:rPr>
              <a:t>inhibit</a:t>
            </a:r>
            <a:r>
              <a:rPr b="0" lang="en-US" sz="2800" spc="-1" strike="noStrike">
                <a:solidFill>
                  <a:srgbClr val="6666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neu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rotransmitters are like valves in a water system allowing flow in one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a neuron begins to “fire” it can’t be stopped, its “all or nothing” if stimu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bd05188_" descr=""/>
          <p:cNvPicPr/>
          <p:nvPr/>
        </p:nvPicPr>
        <p:blipFill>
          <a:blip r:embed="rId2"/>
          <a:stretch/>
        </p:blipFill>
        <p:spPr>
          <a:xfrm>
            <a:off x="7872480" y="0"/>
            <a:ext cx="1271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5160" y="1905120"/>
            <a:ext cx="817884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19320" y="19051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65160" y="1905120"/>
            <a:ext cx="817884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38088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ody and Behavi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4Q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19051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1639800"/>
            <a:ext cx="8001000" cy="49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524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omatic Nervous Syst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rols voluntary activities such as walking, tal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524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utonomic Nervous System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rols involuntary activities such as heartbeat, pup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00"/>
                </a:solidFill>
                <a:latin typeface="Times New Roman"/>
              </a:rPr>
              <a:t>Sympathe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0" lang="en-US" sz="2800" spc="-1" strike="noStrike">
                <a:solidFill>
                  <a:srgbClr val="666600"/>
                </a:solidFill>
                <a:latin typeface="Times New Roman"/>
              </a:rPr>
              <a:t>Parasympathetic (part of A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mpathetic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res body for dealing with emergencies/strenuous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asympathetic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Conserves energy to enhance recovery from strenuous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bd05188_" descr=""/>
          <p:cNvPicPr/>
          <p:nvPr/>
        </p:nvPicPr>
        <p:blipFill>
          <a:blip r:embed="rId2"/>
          <a:stretch/>
        </p:blipFill>
        <p:spPr>
          <a:xfrm>
            <a:off x="7872480" y="0"/>
            <a:ext cx="1271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65160" y="1905120"/>
            <a:ext cx="817884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19051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rcRect l="430" t="611" r="47595" b="901"/>
          <a:stretch/>
        </p:blipFill>
        <p:spPr>
          <a:xfrm>
            <a:off x="20574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5160" y="1905120"/>
            <a:ext cx="817884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19051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rcRect l="54831" t="587" r="1370" b="877"/>
          <a:stretch/>
        </p:blipFill>
        <p:spPr>
          <a:xfrm>
            <a:off x="2133720" y="0"/>
            <a:ext cx="510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62120" y="38088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ody and Behavi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4Q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bd05188_" descr=""/>
          <p:cNvPicPr/>
          <p:nvPr/>
        </p:nvPicPr>
        <p:blipFill>
          <a:blip r:embed="rId2"/>
          <a:stretch/>
        </p:blipFill>
        <p:spPr>
          <a:xfrm>
            <a:off x="7872480" y="0"/>
            <a:ext cx="1271520" cy="1600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295280" y="1676520"/>
            <a:ext cx="6553440" cy="50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n your receptors (senses) li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es!  Activating a neuron will not always result in the same outcome.  Your nervous system is not a “light-switch” – one thing doesn’t always led to anot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ot example / Hand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19:48:30Z</dcterms:created>
  <dc:creator>Martel</dc:creator>
  <dc:description/>
  <dc:language>en-US</dc:language>
  <cp:lastModifiedBy>Authorized User</cp:lastModifiedBy>
  <dcterms:modified xsi:type="dcterms:W3CDTF">2006-11-20T18:52:06Z</dcterms:modified>
  <cp:revision>157</cp:revision>
  <dc:subject/>
  <dc:title>No Slide Title</dc:title>
</cp:coreProperties>
</file>